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BD6-C269-4237-8C2D-A01CB034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A4C-5AA6-4822-A5BE-27DF451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35B-EE96-401B-BB3E-D7F859C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964-2237-48FF-86FB-C5ACDBD5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29E-8EC8-48C6-974C-F2FEB02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85E-E037-4BDF-825A-1D0051A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4C0-E4A8-40BF-98C2-F0080A6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F24-7AB7-4F29-B596-2B8BF56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C91-B3E1-4DA3-A9AF-FA99221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B21-38BB-47EA-BF22-1B25941E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0FC-B1BD-4035-9876-A013E1DF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B93-53D6-4619-900E-A2A3313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4098-26B7-450E-82B9-EDF13E31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6F7-1ECC-4F19-8961-7C540B3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A287-A129-4829-85A6-46FE046C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B4C-9D18-4845-8081-EF3773E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396-B8CD-44DC-B086-F062D09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4B76-BAED-43F5-804E-EE3A44A1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4A95-4C59-449D-B1C3-E8FB138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831-78CF-42E1-9C21-742BAD8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80D-AE88-4201-A91F-7A177CF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807-8A0E-492B-86E8-330CE2EA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B321-C309-42F5-9FB7-14C9897C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7A45-2F25-41C4-97AE-1CFD1BC0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9C87-19DB-413A-BD0F-D8C932FB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DAB4-FF97-4CC4-9E37-98B7B54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9A67-DD9E-443D-B022-93A9BCC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8B6A-7E50-4785-8092-E220861B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86C39-A845-4D27-A620-4F6E709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B0CA-46E0-44A2-9165-2BA5DD1E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C904-2A12-4BE2-BF24-54613C8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FF8A-4B38-4685-9C32-A1109BE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3C49-3C31-4A30-BE90-4FD233A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E59D-7E06-414F-AE37-52541C57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1656-2668-4111-8D64-0B214619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D525-692B-4813-8761-266BF89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1268-6E63-486A-B1A4-78483637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F2A1-359B-4F1A-8017-923C09A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0868-DF02-4796-BA8F-1F3F6E8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15BD-2A96-4DE1-BFF7-A4C317D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5786-BB36-4EA5-B29B-CB2FEFD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AD10-6E09-44D5-B2A5-2284B414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84C2-73B7-42ED-B658-A7F6210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74E8-F9C8-4C78-8895-F2D11E1D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3EEF-0180-4AB9-A13A-098DBB0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0BC8-E955-4283-A8AC-A6C5662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9810-8804-4E3C-ABC8-E2DCE125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460E-675C-49B8-A4BF-BA3EED0A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35D0-61FC-4B4A-BB9C-110C3BE9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6D7B-3591-4D1E-A478-C2CEC80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F6FF-C997-46C4-90CA-219382CE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F930-5CFF-489B-8970-CB193C5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8283D-357A-4740-A695-6C28B5B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AB7D-CFBA-4B23-9900-77344A18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CDCC-F7D1-459E-919E-C9A6D1ED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DD805-75A0-493D-9D6A-253ECE5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2912-74BC-42D6-97A3-398B298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A9D5-D8B9-4AC6-988C-81B0F080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08CF-8BD7-47C4-A748-CA4AB48E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C5ED8-D28A-482F-A62E-A9E20F08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46B9-90DE-49DE-87E9-CF77D8CA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ED05-585A-4E21-B025-F790ABDA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E246-720F-4EC4-AE46-C808ECF2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464C-0CA9-4802-A3ED-7D0AF4F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0649-DE5B-436F-AC3C-C5D6521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6586-E227-47A2-9E1D-E6E41540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E6E36-83E6-49A0-9021-0907AE5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55E1-ADEA-4779-818F-95258F62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F944-DD7C-41BB-97AD-19C0A97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63DF-6C8E-4E1D-B048-24883C3E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0D977-91C1-441D-BA24-6F22E427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FFE9-808C-4973-BBFD-18C15487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203D-7DB1-4ADE-9833-831C78BA240F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7EF-AD2E-44F1-8188-7C25752750C2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D77-8020-4543-935C-D31ACE605AD5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5EC-02A9-498C-A684-5D8369438320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8BEB-86E7-4856-B482-A69DAFB116D5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146-E7C6-4EE1-B50D-85A8F0DC8D94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4359240" y="2890800"/>
            <a:ext cx="347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Karya Gambar Na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dengan teknik hitam putih digambar secara manual (bukan digi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3162240" y="2521080"/>
            <a:ext cx="586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Karya Terba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yang sesuai bidang Seni Rupa, Desain atau Kriya yang memenangkan atau pernah diikutsertakan pada kompetisi, pameran atau memperoleh penghargaan dalam berbagai tingkat,</a:t>
            </a: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 at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Karya Pili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yang sesuai bidang Seni Rupa, Desain atau Kri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3479760" y="2781360"/>
            <a:ext cx="5232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ila melampirkan karya terbaik </a:t>
            </a: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harus melampiran sertifikasi atau keterangan resmi dari panitia/pihak penyelengar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yang menjelaskan memenangkan kompetisi, berpartisipasi dalam kompetisi, memperoleh penghargaan at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diikutsertakan dalam berbagai Tingk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4273560" y="3013200"/>
            <a:ext cx="364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Pengalaman dan Prest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i Bidang </a:t>
            </a:r>
            <a:r>
              <a:rPr b="1" lang="fi-FI" sz="1600" spc="-1" strike="noStrike">
                <a:solidFill>
                  <a:srgbClr val="262626"/>
                </a:solidFill>
                <a:latin typeface="Calibri"/>
              </a:rPr>
              <a:t>Seni Rupa, Desain atau Kri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4452840" y="313704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ukti Prestasi (Jika Ada/Disaran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4338720" y="3013200"/>
            <a:ext cx="35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 atas Motivasi dan Tu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Memilih Prodi ters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5"/>
          <p:cNvSpPr/>
          <p:nvPr/>
        </p:nvSpPr>
        <p:spPr>
          <a:xfrm>
            <a:off x="4452840" y="301320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14T01:50:54Z</dcterms:modified>
  <cp:revision>36</cp:revision>
  <dc:subject/>
  <dc:title>Slide 1</dc:title>
</cp:coreProperties>
</file>